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5322-6BB0-42E9-BB65-5B05AB71A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3B04-B6E1-4490-91FF-4E0ADA56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9E5B-5C27-463D-9ADF-C63CA50F1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9EA7-3079-4469-962B-FB87D09D2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465C-FE74-4F57-A850-0CE1A7FB2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37B7-E466-45F5-B52D-DCF23C63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0766-F34A-4AB2-A1E5-8491CF6F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B2EF-E5F9-4F4E-A34F-995B83B0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AFB0-D8EB-48FA-B4BF-FABDB1AD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1940-0678-41B5-AB09-B5956184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A4724-88D4-45D5-97C0-7C921B95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9B7E-817D-4C91-8EF8-0D264E3C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87A2-DA59-490C-ABCF-490CC328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8215-7AF9-4465-BDF2-899EC0D2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C80B-AF23-43BC-8316-11048D84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41E6-3895-425C-8E1B-8640C8964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41E1-3817-4B0C-86E7-038E39480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68DE-3E60-49EB-88C6-89A82DDE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D795-7B87-42F5-B145-A732E9F8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854D-507B-40E9-81E1-2502D4E3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26A2-D1A0-4B8E-93A6-B87AD3AE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8D3A-927B-4518-AE82-BC6A5F18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9584-A01E-4D86-912C-97DFE9AA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A4FD-B155-448B-A436-32D54934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3CB5-8F4D-447C-947F-5D0C851BFB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80A4-84CE-4783-A31B-DEDFAFB3629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yramids.ru/DrEgypt.htm" TargetMode="External"/><Relationship Id="rId2" Type="http://schemas.openxmlformats.org/officeDocument/2006/relationships/hyperlink" Target="http://www.pavluchenkov.ru/religia_egipta/zagrobniy_cult/index.html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Times New Roman"/>
              </a:rPr>
              <a:t>Загробная жизнь в Древнем Египте: гробницы и саркофаги.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Picture 7" descr="e5-4"/>
          <p:cNvPicPr/>
          <p:nvPr/>
        </p:nvPicPr>
        <p:blipFill>
          <a:blip r:embed="rId1"/>
          <a:stretch/>
        </p:blipFill>
        <p:spPr>
          <a:xfrm>
            <a:off x="885960" y="1600200"/>
            <a:ext cx="3181320" cy="45259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26672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олнил уче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0«Б»класса Барков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те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Гробницы в Долине Царей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572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оружение и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мня, в котор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ранится гроб 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хом умершег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сыпальница. Всего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ревнем Егип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йдено 62 гробниц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Содержимое 4" descr="098.jpg"/>
          <p:cNvPicPr/>
          <p:nvPr/>
        </p:nvPicPr>
        <p:blipFill>
          <a:blip r:embed="rId1"/>
          <a:stretch/>
        </p:blipFill>
        <p:spPr>
          <a:xfrm>
            <a:off x="5105520" y="1752480"/>
            <a:ext cx="34290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Используемые ресурсы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761760" y="1523880"/>
            <a:ext cx="7848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pyramids.ru/DrEgypt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http://www.pavluchenkov.ru/religia_egipta/zagrobniy_cult/index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http://tour-to-egypt.ru/2008/11/28/sarkofag-egipet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http://www.bestreferat.ru/referat-43953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Есть ли жизнь после смерти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т вопрос волнует человечество уже не один век, но никто пока не нашел на него однозначного ответа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нако! На Земле есть загадочная и прекрасная страна, где скажут однозначно…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ЕСТЬ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эта страна -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Древний Египет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9" descr="sherit24"/>
          <p:cNvPicPr/>
          <p:nvPr/>
        </p:nvPicPr>
        <p:blipFill>
          <a:blip r:embed="rId1"/>
          <a:stretch/>
        </p:blipFill>
        <p:spPr>
          <a:xfrm>
            <a:off x="990720" y="2971800"/>
            <a:ext cx="69339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то такой Анубис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267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НУБИС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(греческое) -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НПУ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(египетское). В египетской мифологии бог-покровитель умерших, хранитель ядов и лекарств, "Хозяин священной страны" (т.е. некрополя) и "тот, кто перед залом богов" (в котором проводилось мумифицирование). Как покровитель магии, обладал даром предвидения. Анубис считался судьей бог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6" descr="67п"/>
          <p:cNvPicPr/>
          <p:nvPr/>
        </p:nvPicPr>
        <p:blipFill>
          <a:blip r:embed="rId1"/>
          <a:stretch/>
        </p:blipFill>
        <p:spPr>
          <a:xfrm>
            <a:off x="4648320" y="1447920"/>
            <a:ext cx="3960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то такой Осирис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Царь мертвых. Осирис возглавлял загробный суд, на который рано или поздно должен был явиться каждый мужчина и каждая женщина, и где взвешивались человеческие сердца, а противовесом служило перышко Правды. Египтяне надеялись, что, прибегнув к магии, они после смерти уподобятся Осирису, царю подземного мира, а в стране блаженных могут даже превратиться в самого Осириса, который победил смер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8" descr="осирис 2"/>
          <p:cNvPicPr/>
          <p:nvPr/>
        </p:nvPicPr>
        <p:blipFill>
          <a:blip r:embed="rId1"/>
          <a:stretch/>
        </p:blipFill>
        <p:spPr>
          <a:xfrm>
            <a:off x="4648320" y="1447920"/>
            <a:ext cx="41907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Загробный суд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-другому он называл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звешиванием”. На весах исти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звешивали сердце мертвого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ышко Маат – богини правды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раведливости. Если вес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храняли равновесие, т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мершего отправляли на рай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я Иару. Но если одна стор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сов перевешивала другую, т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ловека пожирало странно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удовище с головой крокодил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гами бегемота и туловищ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ь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Содержимое 8" descr="6713.jpg"/>
          <p:cNvPicPr/>
          <p:nvPr/>
        </p:nvPicPr>
        <p:blipFill>
          <a:blip r:embed="rId1"/>
          <a:stretch/>
        </p:blipFill>
        <p:spPr>
          <a:xfrm>
            <a:off x="4724280" y="1295280"/>
            <a:ext cx="39625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Сохранение тел умерших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даление внутренних органов, которые помещали в 4 кувшина-каноп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место внутренностей – соль-натрон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ащивание маслом и благовония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ленание полосками полот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Содержимое 4" descr="3796.jpg"/>
          <p:cNvPicPr/>
          <p:nvPr/>
        </p:nvPicPr>
        <p:blipFill>
          <a:blip r:embed="rId1"/>
          <a:stretch/>
        </p:blipFill>
        <p:spPr>
          <a:xfrm>
            <a:off x="4952880" y="1295280"/>
            <a:ext cx="3886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умия…или что было под бинтам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жду складками полосок – амулеты и украш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цо – особая мас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ло укладывали в несколько просторных гробов, украшенных текстами и рисунками, относящимися к жизни покойног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обы помешались в саркофаг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Содержимое 4" descr="mummy_Saqqara_AP.jpg"/>
          <p:cNvPicPr/>
          <p:nvPr/>
        </p:nvPicPr>
        <p:blipFill>
          <a:blip r:embed="rId1"/>
          <a:stretch/>
        </p:blipFill>
        <p:spPr>
          <a:xfrm>
            <a:off x="4876920" y="1600200"/>
            <a:ext cx="3809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АРКОФАГ – это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267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ревнеегипет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менный и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ревянный гроб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крашавший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ульптурой и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списью. Именно 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же помещался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обниц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Содержимое 4" descr="0237952743.jpg"/>
          <p:cNvPicPr/>
          <p:nvPr/>
        </p:nvPicPr>
        <p:blipFill>
          <a:blip r:embed="rId1"/>
          <a:stretch/>
        </p:blipFill>
        <p:spPr>
          <a:xfrm>
            <a:off x="4952880" y="1447920"/>
            <a:ext cx="3886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0-04-27T18:55:24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